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706-B97F-4A6B-9B02-C4155C544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09C-BB4F-4360-B900-4AC791C2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AB7-0FC9-4C76-8B82-D3B689E3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0F3-127F-4CD8-BCB3-0C6AF948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6F60-D3A9-4649-BA55-821CAD4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018-9E9B-4C26-8E23-E7C6E978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A04-F2D7-4E63-A967-7D02311C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81E-F01E-4319-BB9A-785D5BA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FF4D-77E9-4428-9690-C055314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5AC-7CD0-4C14-A84A-5CCB5BD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758-B1AB-48DB-AA6C-D1878B15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BA4A-EB48-46A1-9F62-4A4A283A0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6F6A5-4AA2-4DF8-B01D-424822C6870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4ED7-8CDD-4018-B261-86CDE6E1F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ransmission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Characteristic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Lo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p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lect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ation or in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pagation of D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tage Down a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ysical Explanation of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understand characteristics of transmission line with ac voltage applied, infinitely long transmission line analyzed with dc voltag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locity of Propag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moving down the line, its electric and magnetic fields are propagated down the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ropagation of DC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Voltage Down a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ay signal by some specific amount of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traveled by wave during a period of one cyc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nresonant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veling DC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resonan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 of infinite length or as one terminated with resistive load equal in ohmic value to characteristic impedance of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veling wa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age and current waves; move in phase with one another from source to loa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nresonant Lin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veling AC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ttle difference between charging of line when ac voltage applied to it and when dc voltage appl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C Applied to an Open-Circuit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ssion line terminated with impedance not equal to characteristic imped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impedances are equal, applied voltage divided equally between source and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ident and Reflected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on open-circuited wire equal to source voltage, and current is zer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C Applied to a Short-Circuited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reflection from open circuit is in phase, while from short circuit it is out of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reflection from open circuit is out of phase, while from short circuit it is in pha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n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sm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cident and reflected waves interac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mains in one position, varying only in amplitu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ed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of-phase reflection that occurs for current on open line and voltage on shorted li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oltage divided by curr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Wire Open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between antenna and transmitter or antenna and receiv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constru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isted P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insulated wires twisted to form flexible line without use of spac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sonant Transmission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length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nversion of voltage and current every quarter wave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vity filter or selective cavity extends idea of quarter-wavelength coaxial stub filter to high-power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aneous vector addition of incident-wave amplitude with that of reflected wave as result of impedance mismatch between transmission line and loa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l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 when impedance mismat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gree of Mis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ion coefficient, voltage standing-wave ratio, return lo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ge standing wave ratio (VSW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io of maximum voltage to minimum of standing wave on a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nding wave ratio (SW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al to ratio of maximum current to minimum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 of Misma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ect condition of no reflection when load purely resistive and equal to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the VSWR, the greater is mismatch on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anding Wave Rat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rter-Wavelength Transfor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physically a transformer; offers property of impedance trans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ectrical 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 can be miles long physically and electrically short at low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antly changing along line and equal to ratio of voltage to current at given poi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ith chart presents solution to impedance-matching problems posed by complex sources and complex loa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mith chart impedance-matching tool for transmission li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aphical Smith chart used to represent network analyzer solu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iz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viding all impedances by characteristic impedance of the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iprocal of impedance defined as admittance and reciprocal of reactance is called suscep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utility as impedance-matching calcul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s for simple conversion of impedance to admittance, and vice vers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shielded Twisted Pair (UT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computer networking; CAT6 and CAT5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2-1: T568A/T568B Wi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Smith Char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ith Ch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ue standing wave representation on Smith char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alculations with transmission lines pertain to matching load to line and keeping VSWR as low as poss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short-circuited stubs prevalent in matching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ete Circuit Sim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line sections: used to simulate inductance, capacitance,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on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u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balanced-to-balanced transform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Lines as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rter-wave section of transmission line used as efficient filter or suppressor of even harmonic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lotted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of coaxial line with lengthwise slot cut in outer conductor; pickup probe inserted into sl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SWR, generator frequency, unknown load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ansmission Line Appl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omain Reflectomet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hort-duration pulse transmitted into a l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ed with oscillosc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equipment to characterize linear impedance characteristics of devices under test (DUT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lar 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s magnitude of DUT imped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ctor network analyzer (VN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s impedance magnitude and phase characteristics of D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ing or S-parame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ear transmission and reflection characteristics of signals applied to DU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ttering matri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s all voltages incident to and reflected from all por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edance analysis not confined to microwave system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mpedance Matching and Network Analy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ctor network analyz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of three receivers and two-port “test set” that separates forward and reflected components of applied signals through directional coupl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-1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568A/T568B Wirin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24" descr="tab12_01.jpg"/>
          <p:cNvPicPr/>
          <p:nvPr/>
        </p:nvPicPr>
        <p:blipFill>
          <a:blip r:embed="rId1"/>
          <a:stretch/>
        </p:blipFill>
        <p:spPr>
          <a:xfrm>
            <a:off x="228600" y="1371600"/>
            <a:ext cx="8686800" cy="39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shielded Twisted Pair (UT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for computer networking; CAT6 and CAT5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2-2: Different Categories for Twisted-Pair C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2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Different Categories for Twisted-Pair Cabl3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6" name="Picture 2" descr="tab12_02.jpg"/>
          <p:cNvPicPr/>
          <p:nvPr/>
        </p:nvPicPr>
        <p:blipFill>
          <a:blip r:embed="rId1"/>
          <a:stretch/>
        </p:blipFill>
        <p:spPr>
          <a:xfrm>
            <a:off x="228600" y="777960"/>
            <a:ext cx="8686800" cy="49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ielded P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llel conductors separated from each other, and surrounded by solid dielectr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ype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axial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gid or air; flexible or soli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d/Unbalanced Li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0600" indent="-21456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of electrical signal by center conductor in coaxial line measured with respect to grounded outer conduc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20600" indent="-21456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e current flows in each wire but 180° out of pha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ical Characteristics of Transmission Lin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Wire Transmission L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al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uction of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acteristic Imped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 measured at any point on line would be the sa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45:01Z</dcterms:modified>
  <cp:revision>4</cp:revision>
  <dc:subject/>
  <dc:title>Slide 1</dc:title>
</cp:coreProperties>
</file>